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783-E4F3-4F18-8D6C-188B9D3E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E81-9DE7-4DA3-907F-937CBEFE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966-F6CF-453B-A745-C4763871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C70-AC38-46C3-B03E-4F627A76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DC76-79A3-498C-9138-669C5E67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30D3-C2C9-4ADD-9657-14B26F4A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0A0E-10DC-4B1E-9C01-2F19D2E4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8ECA-4291-4F84-A1C1-F5D1F9FE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EBDF-2EB5-420A-A105-43161322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1C7D-A352-4EDF-A109-AA409EAC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4020-32B3-43E2-B5C0-C83FCAE5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DF2-9649-4A01-899B-B5270D5C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060A-4618-445C-B581-AE136D3B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07D8-561A-4707-ADDA-CAA7FDE5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0683-8905-432A-B368-0452B9AB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0ED0-0053-4304-9BA8-D468704E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9DF7-BC0C-4054-9489-F4432566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FB300-D3E2-4C62-B3A7-B09A090C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4B06-CA16-4702-B35E-7E3CC041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ECAF-678A-4282-93CE-118D2291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600A-2055-476E-9EF8-38D376A2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A49B6-9C76-4333-8F63-C660334D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D20-16FD-469B-AB0B-78E94BBB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CA2C-A921-41EA-BC02-86DD6AE4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A9AB4-B606-4834-B57E-C36952AC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C540-B9EA-44F2-9927-877166ED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17C1-7B6F-4C08-90F6-07254B6F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BBB10-8B6E-4CCE-B27C-3E64C7F5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EE926-462D-4496-A3A3-D4BD0DDB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B7232-283C-4B8E-AE78-F48E0B5A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1568A-7B10-4E2A-99A8-25612992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015A0-A54B-480D-8DF1-00E5BE9E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5714-21A3-481A-B2DA-7D7DF6CC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6DF-3C68-48DD-B26C-425D07F6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D639E-FD9B-4DF0-8E75-9E789297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54C4B-6C28-46B5-8C1D-C910027A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855E-A638-43DF-A237-53BD4509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185F4-C0DC-4B3A-B179-215D3C01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3A00B-54DB-4E0B-8B69-B8C7C8BD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A351-5CF7-4005-9CD7-857C57CE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9513-9D28-4C07-97A7-97CE698E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0F861-07E8-4A8D-AC10-32B07CD4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9EB3D-42E9-4FD4-88FB-62544CBF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0A93B-AA0B-46A7-AF54-9AB104C3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908-2171-42EA-AC70-F0D2C81E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BA55D-100C-4C1E-B602-0DCC1AD7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D15AA-EEDD-4FFF-A7DD-D87C1948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C261B-20DF-4EE1-80E8-0C0CB54C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5DFC6-BFDF-42E7-B535-7980DD48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1A766-D474-410B-B8EF-E92B7B37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C07D6-FA7C-44A0-BC74-4E9C3723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6C7E2-FEBA-4D82-8D56-21BD033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68B75-52BE-427F-AAD9-4DD1D930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2F37C-86DA-4DBB-8B49-2E362F0B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95D72-98F5-4976-AF91-CD42FD14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597-5876-4076-92CF-7DAC07A6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B7D78-B7AD-4835-A5AB-9CEFA154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BB5-1790-4002-9C8B-BE19F7A7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D69-1F4B-4E5C-9060-1910CF4B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1AD-2358-410C-8322-E4FED447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B8D6-73A2-4A97-9A04-677B0696215E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6045-FCF6-48F7-A815-4CB24A9F3348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CF60-06EB-473B-8C38-8FE4077D5021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C352-597C-425F-80FF-31EBC2C197CE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1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B34F-9A61-4F18-B766-7718EEFA00D3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reting Gold Coast Supreme Court Records, SCT 5/4/19: Regina v Quamina Eddoo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6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62120" y="0"/>
            <a:ext cx="754380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23888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Abina Mansah’s world</a:t>
            </a:r>
            <a:endParaRPr b="0" lang="en-US" sz="8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d2d2d"/>
                </a:solidFill>
                <a:latin typeface="Impact"/>
              </a:rPr>
              <a:t>What are the difficulties?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Young enslaved women don’t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write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many documents themselve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n the documents in which enslaved youths appear, they are talked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about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but don’t do much talking themselve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s a result, the voices of enslaved women are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hidden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beneath other, dominant voices, and must be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excavated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1100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2d2d"/>
                </a:solidFill>
                <a:latin typeface="Impact"/>
              </a:rPr>
              <a:t>Why is it worth trying to excavate the voices of Africans?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772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Relevance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uthenticity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Power relations today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t’s the historians job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t increases the accuracy of our studies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2d2d"/>
                </a:solidFill>
                <a:latin typeface="Impact"/>
              </a:rPr>
              <a:t>How can we hear the voices of young enslaved women from the colonial past?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39360" y="1980720"/>
            <a:ext cx="8504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Use new types of sources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Oral histories/ oral traditions?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Archaeology?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Linguistic analysis (“words and things”)?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Read old documents in a new way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That’s what we’re doing with Abina’s testimony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2d2d"/>
                </a:solidFill>
                <a:latin typeface="Impact"/>
              </a:rPr>
              <a:t>My strategy for excavating Abina Mansah’s voice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ontextualize! – thick analysis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Understand the top-level voices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Read the document carefully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Make sense of Abina Mansah’s testimony in her own words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2d"/>
                </a:solidFill>
                <a:latin typeface="Impact"/>
              </a:rPr>
              <a:t>The context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30"/>
                </a:solidFill>
                <a:latin typeface="Times New Roman"/>
              </a:rPr>
              <a:t>Annexation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of the Gold Coast Colony and constitution of the Gold Coast Protectorate in 1874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Various British and international groups pressured the Crown to abolish slavery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1874 </a:t>
            </a:r>
            <a:r>
              <a:rPr b="1" lang="en-US" sz="2000" spc="-1" strike="noStrike">
                <a:solidFill>
                  <a:srgbClr val="303030"/>
                </a:solidFill>
                <a:latin typeface="Times New Roman"/>
              </a:rPr>
              <a:t>anti-slavery strategy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engineered to satisfy the abolitionist British public while not dislocating the political and economic interests of the indigenous (and often slave-owning) elites on whom their ability to maintain their authority depended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Therefore: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Liberation could only be achieved by individuals just leaving or going to court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Young children, especially girls, could not leave easily, but also found it difficult to go to court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d2d2d"/>
                </a:solidFill>
                <a:latin typeface="Impact"/>
              </a:rPr>
              <a:t>The magistrates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British, middle class, Christian, abolitionis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Views of children – as dependants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Views of “paternal” </a:t>
            </a:r>
            <a:r>
              <a:rPr b="0" i="1" lang="en-US" sz="2400" spc="-1" strike="noStrike" u="sng">
                <a:solidFill>
                  <a:srgbClr val="303030"/>
                </a:solidFill>
                <a:uFillTx/>
                <a:latin typeface="Times New Roman"/>
              </a:rPr>
              <a:t>authority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and </a:t>
            </a:r>
            <a:r>
              <a:rPr b="0" i="1" lang="en-US" sz="2400" spc="-1" strike="noStrike" u="sng">
                <a:solidFill>
                  <a:srgbClr val="303030"/>
                </a:solidFill>
                <a:uFillTx/>
                <a:latin typeface="Times New Roman"/>
              </a:rPr>
              <a:t>duty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in Britain and in Gold Coas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e magistrate was (usually) the sole judge and thus the principal audience.  Everyone in the courtroom was performing (and trying to convince)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him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of their point of view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d2d2d"/>
                </a:solidFill>
                <a:latin typeface="Impact"/>
              </a:rPr>
              <a:t>The application of the law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Magistrates determined whether the individual was “enslaved” or “a customary dependant”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1) did any money change hands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2) was the child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physically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abused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3) was the child called a slave (such local terms as “odonkwo” or “amperlay”)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4) what sort of labor was the child required to do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5) did the child receive wages or compensation for labor provided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d2d2d"/>
                </a:solidFill>
                <a:latin typeface="Impact"/>
              </a:rPr>
              <a:t>Other actors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How do they shape or alter testimony and judgments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nterpreters – In this case the Euro-African James Davi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erks – Usually locals, but in this case the magistrate himself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Lawyers – James Hutton Brew.  Usually friendly with magistrate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Juries – important men, likely to be allies of slave-owners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2d2d"/>
                </a:solidFill>
                <a:latin typeface="Impact"/>
              </a:rPr>
              <a:t>The “language” of the court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e court had a “code” made up of the magistrate’s understanding of the law cultural language in which he could be addressed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ome participants understood this language, others did not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bina Mansah’s understanding of this language was very low.  This hurt her case, but ironically makes it easier for us to hear her voice!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4571640"/>
            <a:ext cx="6784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Abina’s story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03030"/>
                </a:solidFill>
                <a:latin typeface="Times New Roman"/>
              </a:rPr>
              <a:t>In 1876, a young, enslaved girl escaped her captivity near the town of Saltpond in what is today Ghana.</a:t>
            </a:r>
            <a:endParaRPr b="0" lang="en-US" sz="21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267080" y="495360"/>
            <a:ext cx="2984760" cy="4525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4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03030"/>
                </a:solidFill>
                <a:latin typeface="Times New Roman"/>
              </a:rPr>
              <a:t>Born in Asante, she had been enslaved in several households before Quamina Eddoo’s house near Saltpond, where she worked as a “housegirl”.</a:t>
            </a:r>
            <a:endParaRPr b="0" lang="en-US" sz="21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962520" y="571680"/>
            <a:ext cx="4038480" cy="54957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03030"/>
                </a:solidFill>
                <a:latin typeface="Times New Roman"/>
              </a:rPr>
              <a:t>Abina fled to Cape Coast, a British colony where she was –by law –free, and found employment working for a Eurafrican translator named James Davis.</a:t>
            </a:r>
            <a:endParaRPr b="0" lang="en-US" sz="21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3568680" cy="53802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03030"/>
                </a:solidFill>
                <a:latin typeface="Times New Roman"/>
              </a:rPr>
              <a:t>With Davis’ help, she took her former master to court, where she argued that he should be imprisoned based on her experiences as a slave.</a:t>
            </a:r>
            <a:endParaRPr b="0" lang="en-US" sz="21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4691160" y="482760"/>
            <a:ext cx="3335400" cy="52322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03030"/>
                </a:solidFill>
                <a:latin typeface="Times New Roman"/>
              </a:rPr>
              <a:t>Neither the British magistrate nor the jury of local men sided with her, and her former master was exonerated.</a:t>
            </a:r>
            <a:endParaRPr b="0" lang="en-US" sz="21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3570480" cy="54482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03030"/>
                </a:solidFill>
                <a:latin typeface="Times New Roman"/>
              </a:rPr>
              <a:t>Nevertheless, through her testimony we hear the voice of a  young woman who forced the men of the court to here of her experiences, and whose words still convey her perspectives today.</a:t>
            </a:r>
            <a:endParaRPr b="0" lang="en-US" sz="21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4419720" y="609480"/>
            <a:ext cx="3390840" cy="51580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32767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EXCAVATING VOICES – 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2120" y="49528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methods and ethics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2d"/>
                </a:solidFill>
                <a:latin typeface="Impact"/>
              </a:rPr>
              <a:t>What did it mean to be “colonized”, and how can the victims of history be redeemed?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23840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olonialism is usually understood as a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system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and as a series of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projects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largely from the view of the colonizer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e perspective of the colonizers is relatively easy to recover because it was the colonizers who wrote most of the documents, choose what went into the archive, etc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But how can we recover the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sub-altern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voice of Africans?  Can formally-trained scholars in a position of relative power do it? Is it possible to do at all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pecifically, I wanted to aim at recovering the voice of one of the most dispossessed victims of history of all – a young, African womanof servile (or slave) clas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22:11:37Z</dcterms:created>
  <dc:creator>tgetz</dc:creator>
  <dc:description/>
  <dc:language>en-US</dc:language>
  <cp:lastModifiedBy>Trevor Getz</cp:lastModifiedBy>
  <dcterms:modified xsi:type="dcterms:W3CDTF">2023-11-26T00:16:43Z</dcterms:modified>
  <cp:revision>14</cp:revision>
  <dc:subject/>
  <dc:title>Abina Mansah’s world</dc:title>
</cp:coreProperties>
</file>